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D092-9E84-4D29-91BC-D97278E10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6A17-7D13-4A02-BAE4-D00C600732C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FE13-EC83-4068-944E-3EA5744376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9B1E-F08C-427D-8994-66400CFA50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0966-AF9D-4CC0-8241-D6E8477C7F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8A6A-7A7B-46C5-A57A-4FB1DCDF39A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2ACA-DC28-4D2D-8711-5BBB670334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91A3-7BA6-4656-9ED5-751F7F977D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A651-5C28-4907-85FF-162CCBEE78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34E3-B59E-4075-813B-5331CD5F69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C793-CC9B-4D4F-8D56-6882361111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A46E-6FAC-44F6-B1C7-2BE5CB87365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291C0-6059-4A86-8598-408FDC45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2C652-64F9-40FC-9F5B-F206EDA2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D2FA7-F79A-4ECD-971A-2F89C2005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D0A23-DFDF-4D57-A1EB-5ECDC0F85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FDDC3-BE5D-4D91-A45D-137CCE075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8BE25-8F52-441D-9199-023609521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36655-DC7E-4F8C-BC50-A16F596A4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32C56-34EB-46AE-8E73-EF54D6FE2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8C289-AE9B-493C-AC06-AC7F07B18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96025-6F32-47BE-9BB1-AAB2AB758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1C721-AAA8-4510-8897-1DC1D107E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235C-5518-49DD-8F0A-39C2E4B2A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0068C-C4FF-47A2-A7C5-99E8A5B0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1DA0E-F140-4B68-8227-5317685AD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DF9E5-C802-4E94-8498-819E26D7B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EC46D-666A-462B-BAAC-371686F1E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D002B-DB80-4DA1-AA9A-EE1746E3F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B45B-342A-486E-9C4F-21184EA6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1446-C835-4A8C-BDCC-88D2EFD37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641F-F95A-41DD-AF87-F0AF1223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B8CB-5E2C-4F0A-B478-25A24F1C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73D7-2193-47B7-A8BB-BCD614BC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F718-2E4F-42A2-B9C1-204C0C50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B9C04-C39A-45F8-BBA1-6B2AE0C71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056D-2CE6-4D43-B236-75533B79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270A-242A-4F79-9650-0F6C69576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eeker401.files.wordpress.com/2009/04/somali_pirates.jpg" TargetMode="External"/><Relationship Id="rId3" Type="http://schemas.openxmlformats.org/officeDocument/2006/relationships/hyperlink" Target="http://www.historyguy.com/somali_pirate_attacks.htm" TargetMode="External"/><Relationship Id="rId4" Type="http://schemas.openxmlformats.org/officeDocument/2006/relationships/hyperlink" Target="http://www.historyguy.com/somali_pirate_attacks.htm"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ali Piracy </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ick Sorenson and Skyler Arnber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3000"/>
          </a:bodyPr>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from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e, Robert A. "History Guy: Somali Piracy." </a:t>
            </a:r>
            <a:r>
              <a:rPr b="0" i="1" lang="en-US" sz="3000" spc="-1" strike="noStrike">
                <a:solidFill>
                  <a:srgbClr val="000000"/>
                </a:solidFill>
                <a:latin typeface="Verdana"/>
              </a:rPr>
              <a:t>History Guy</a:t>
            </a:r>
            <a:r>
              <a:rPr b="0" lang="en-US" sz="3000" spc="-1" strike="noStrike">
                <a:solidFill>
                  <a:srgbClr val="000000"/>
                </a:solidFill>
                <a:latin typeface="Verdana"/>
              </a:rPr>
              <a:t>. N.p., n.d. Web. 19 May 2010.,</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uler, Dave. "Dealing with Somali Piracy ." </a:t>
            </a:r>
            <a:r>
              <a:rPr b="0" i="1" lang="en-US" sz="3000" spc="-1" strike="noStrike">
                <a:solidFill>
                  <a:srgbClr val="000000"/>
                </a:solidFill>
                <a:latin typeface="Verdana"/>
              </a:rPr>
              <a:t>Outside The Beltway</a:t>
            </a:r>
            <a:r>
              <a:rPr b="0" lang="en-US" sz="3000" spc="-1" strike="noStrike">
                <a:solidFill>
                  <a:srgbClr val="000000"/>
                </a:solidFill>
                <a:latin typeface="Verdana"/>
              </a:rPr>
              <a:t>. n.p., 13 Apr. 2009. Web. 19 May 2010.</a:t>
            </a:r>
            <a:endParaRPr b="0" lang="en-US" sz="3000" spc="-1" strike="noStrike">
              <a:solidFill>
                <a:srgbClr val="000000"/>
              </a:solidFill>
              <a:latin typeface="Verdana"/>
            </a:endParaRPr>
          </a:p>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p:txBody>
      </p:sp>
      <p:pic>
        <p:nvPicPr>
          <p:cNvPr id="109" name="Picture 4" descr="shabaab3"/>
          <p:cNvPicPr/>
          <p:nvPr/>
        </p:nvPicPr>
        <p:blipFill>
          <a:blip r:embed="rId2"/>
          <a:stretch/>
        </p:blipFill>
        <p:spPr>
          <a:xfrm>
            <a:off x="7467480" y="3886200"/>
            <a:ext cx="762120" cy="5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 continued</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Follow the Money</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seeker401.files.wordpress.com/2009/04/somali_pirates.jpg</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History Guy </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3"/>
              </a:rPr>
              <a:t>http://</a:t>
            </a:r>
            <a:r>
              <a:rPr b="0" lang="en-US" sz="3000" spc="-1" strike="noStrike" u="sng">
                <a:solidFill>
                  <a:srgbClr val="336699"/>
                </a:solidFill>
                <a:uFillTx/>
                <a:latin typeface="Verdana"/>
                <a:hlinkClick r:id="rId4"/>
              </a:rPr>
              <a:t>www.historyguy.com/somali_pirate_attacks.htm</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 name="Picture 4" descr="somali_pirates"/>
          <p:cNvPicPr/>
          <p:nvPr/>
        </p:nvPicPr>
        <p:blipFill>
          <a:blip r:embed="rId5"/>
          <a:stretch/>
        </p:blipFill>
        <p:spPr>
          <a:xfrm>
            <a:off x="7315200" y="1828800"/>
            <a:ext cx="1295280" cy="647640"/>
          </a:xfrm>
          <a:prstGeom prst="rect">
            <a:avLst/>
          </a:prstGeom>
          <a:ln w="0">
            <a:noFill/>
          </a:ln>
        </p:spPr>
      </p:pic>
      <p:pic>
        <p:nvPicPr>
          <p:cNvPr id="113" name="Picture 6" descr="somali_pirate_attacks_map"/>
          <p:cNvPicPr/>
          <p:nvPr/>
        </p:nvPicPr>
        <p:blipFill>
          <a:blip r:embed="rId6"/>
          <a:stretch/>
        </p:blipFill>
        <p:spPr>
          <a:xfrm>
            <a:off x="6781680" y="3505320"/>
            <a:ext cx="976320" cy="920520"/>
          </a:xfrm>
          <a:prstGeom prst="rect">
            <a:avLst/>
          </a:prstGeom>
          <a:ln w="0">
            <a:noFill/>
          </a:ln>
        </p:spPr>
      </p:pic>
      <p:pic>
        <p:nvPicPr>
          <p:cNvPr id="114" name="Picture 5" descr="somali_pirates"/>
          <p:cNvPicPr/>
          <p:nvPr/>
        </p:nvPicPr>
        <p:blipFill>
          <a:blip r:embed="rId7"/>
          <a:stretch/>
        </p:blipFill>
        <p:spPr>
          <a:xfrm>
            <a:off x="6705720" y="4495680"/>
            <a:ext cx="213336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civil war in the 1990’s destroyed the country's gover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2006 Ethiopia invaded Somalia (with help from the United States) to prevent it from becoming an Islamist govern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5" descr="shabaab3"/>
          <p:cNvPicPr/>
          <p:nvPr/>
        </p:nvPicPr>
        <p:blipFill>
          <a:blip r:embed="rId2"/>
          <a:stretch/>
        </p:blipFill>
        <p:spPr>
          <a:xfrm>
            <a:off x="380880" y="533520"/>
            <a:ext cx="82645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 a result of that, foreign fishing ships started fishing in Somali waters for it’s tuna, which caused economic problems in Somalia's fishing industry. The fishermen, with access to small arms and portable rockets, went out to sea to attack the foreign cargo, and cargo ships. This eventually turned into organized piracy</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5" descr="somali_pirates"/>
          <p:cNvPicPr/>
          <p:nvPr/>
        </p:nvPicPr>
        <p:blipFill>
          <a:blip r:embed="rId2"/>
          <a:stretch/>
        </p:blipFill>
        <p:spPr>
          <a:xfrm>
            <a:off x="533520" y="1523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y and how they do it</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captured merchant ships off the coast of Yemen, Somalia, and Kenya and hold them for rans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hip owners and the insurance companies pay the ransom because it is cheaper to pay it than to loose the ship and its carg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5" descr="somali_pirate_attacks_map"/>
          <p:cNvPicPr/>
          <p:nvPr/>
        </p:nvPicPr>
        <p:blipFill>
          <a:blip r:embed="rId2"/>
          <a:stretch/>
        </p:blipFill>
        <p:spPr>
          <a:xfrm>
            <a:off x="1523880" y="380880"/>
            <a:ext cx="5562720" cy="52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form the United states, United Kingdom, Russia, and India patrol the   Somalia coats and try to stop i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are now arming themselves to protect against atta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you can do</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people have suggested to use amphibious or air attacks on the pirat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thers think we should pay them off</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body knows what is really the best way to get rid of the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est solution is to get a functioning government in Somalia to control it citize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5:12:12Z</dcterms:created>
  <dc:creator>ws13132</dc:creator>
  <dc:description/>
  <dc:language>en-US</dc:language>
  <cp:lastModifiedBy>ws13132</cp:lastModifiedBy>
  <dcterms:modified xsi:type="dcterms:W3CDTF">2010-05-20T15:58:46Z</dcterms:modified>
  <cp:revision>9</cp:revision>
  <dc:subject/>
  <dc:title>Somali Piracy </dc:title>
</cp:coreProperties>
</file>